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B09-71CD-40F4-B397-511EA225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C2C-483B-4FEE-93F9-C8AB8DF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F87-14A9-4876-A585-DBB3A035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4BF-1F4C-4558-A1EE-B4945F44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0BA-214C-44A1-A244-F0B41690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752-DC4A-411B-BEC7-EC8C0349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180-4015-4064-8B80-A75086E1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1CF-1794-46B5-B3B0-D3AEC2EC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6D6-C62A-4A6D-AE90-D0E8638C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B81-5803-45CE-9F08-C68E86CB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F04-9AF6-4D89-907F-74865DB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256-C50B-426D-AE6B-3BFFAF6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071-AB7A-4E9F-AF1C-B7A5A7D06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3049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0"/>
            <a:ext cx="5562720" cy="9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ملكُ الملوك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أرباب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نج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نبعُ الحي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 يسوع نورُ الرج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 يسوع دربُ السم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اللازمة: أميرُ السلا م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      مجداً هللوي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6:57:28Z</dcterms:created>
  <dc:creator>SUZANNE.MD</dc:creator>
  <dc:description/>
  <dc:language>en-US</dc:language>
  <cp:lastModifiedBy>USER</cp:lastModifiedBy>
  <dcterms:modified xsi:type="dcterms:W3CDTF">2002-12-23T20:08:24Z</dcterms:modified>
  <cp:revision>1</cp:revision>
  <dc:subject/>
  <dc:title>PowerPoint Presentation</dc:title>
</cp:coreProperties>
</file>